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16.wmf" ContentType="image/x-wmf"/>
  <Override PartName="/ppt/media/image9.png" ContentType="image/png"/>
  <Override PartName="/ppt/media/image6.gif" ContentType="image/gif"/>
  <Override PartName="/ppt/media/image10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1CFA-E8CB-42FD-9B8C-FA16A75CDA0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Разви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капитал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в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1327-188A-453F-BAAB-E2CA15E8298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Развитие банков оказа-лось тесно связано со строительством желе-зных дорог.Это объяс-нялос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.Поражением в Крымс-кой вой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2.Желанием увеличить экспорт хлеба за счет  соединения центра с провинцией транспор-тной се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ала создана программа привлечения частного и иностранного капи-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EB1B-D78D-4319-8E87-31346F9D180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1868-72 гг. в стране проходило бурное железнодоро-жное строительство.Транспортная сеть выросла с 2 тыс. до 22 тыс. км дорог.Появились предприни-матели разбогатевшие на таком строительстве.Им разрешали на льготных условиях приобрести под-вижной состав,рельсы и др. материалы.Большин-ство дорог строились в интересах промышленнос-ти и торгов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BAF8-0D70-46D9-A816-3A833D63B6F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Москва была с вязана с Нижним Новгородом, Воро-нежем,Уралом.Между собой были соединены круп нейшие текстильные центры.Грузооборот желез-ных дорог вырос за 15 лет в 25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1891 г. началось строительство Транссиба.Разви-тие транспорта привело к развитию сопутствую-щи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7997-6B8E-438A-B5E2-261F5F10B3D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к. 1860-х гг. начался промышленный подъем.В сер. 80-х гг. завершился промышленный переворо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Главной базой металлургии оставался Урал,но быст-ро развивался Донбасс.Здесь же добывали уголь.В Баку сосредоточилась добыча нефти.Начало разви-ваться машиностроение-Путиловский з-д в Петер-бурге и в Коломне производство парово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2E8E-974B-4629-8666-FBC359C7C4C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.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DDB7-9FB9-42A8-8BFC-59DAD47606A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ыстрыми темпами раз-вивалась текстильная промышленность.Владельцы мануфактур по-купали земли в Ср. Азии и начали выращи вать там хлопок.За 30 лет производство текс-тиля выросло в 30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На Юге успехов достигла свеклосахарная про-мышленность(рост в 6 ваз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Число рабочих выросло за 15 лет в 1,5 раза и составила 1 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Пополнение шло за счет крестьян-отходников,посте-пенно отрывавшихся от земли.Уже в 1872 г. на Кре нмгольской мануфактуре прошла 1-я в истории России стач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н.80-х гг. темпы развития резко замедлились из-за Русско-Турецкой войны,нерациональным налого-обложением и низкой покупательной способностью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01FD-CE41-4873-B543-36B61DC3B45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-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-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7EAF-5B9C-4BD7-9EF2-B78EAB57ABF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Что способствовало и что тормозило развитие капиталистических отношений в промышленности, сельском хозяйстве и финансах России в пореформенный пери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1FCB-3F93-4C49-BFE4-E16CEF9606E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первые годы после реформы в сельском хозяйстве начался спад вызванный его перестройкой.Поме-щики оказались в сложных условиях-у них не бы-ло свободного капитала и инвентаря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Times New Roman"/>
              </a:rPr>
              <a:t>(почему?).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с-новная часть помещиков выкупные платежи быс-тро промотала,а власти при выдаче денег удержи-вали с них долги.Поэтому помещики сдавали зем-лю в аренду, а за это крестьяне отрабатывали и их наде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77CA-1836-4680-AA37-B03263F925D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Многие помещики использовали труд временнообя-занных крестьян.Даже высокие мировые цены на хлеб и строительство дорог в хлебные районы не заставило их вести хозяйство по-капиталистичес-ки.Крестьяне-арендаторы тоже не воспользова-лись эти фактором,т.к. аренда росла еще быстр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Крестьяне и помещики не были уравнены в гражд-анских правах,т.к.1-е были причислены к подат-ным сослов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1ED7-81F7-4A3A-9089-B51CC3B0AF4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результате крестьянской реформы ожидаемого рос-та промышленности не последовало.Предпринима-тели получили возможность использовать вольно-наемный труд, но посессионные крестьяне испы-тывая ненависть к подневольному труду бросали заводы и уходили в деревню.В результате сократи-лось производство в металлургии и суконной про-мышленности.Лишь через 10 лет они смогли прео-долеть криз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C484-63A3-4B39-909B-F1C350CED2B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хлопчатобумажной про-мышленности кризис объ яснялся ростом мировых цен на хлопок.Но после присоединения к России Средней Азии это пробле-ма была разреш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Несмотря на трудности рос-сийская экономика суме-ла перестроиться доволь-но быстро во многом бла- годаря целенаправлен-ной экономической поли-тике государства.В стра-не появился слой круп-ных фабрика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1E95-8039-41B5-9483-E50A72444DE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Экономические реформы начались с реорганизации банковской системы.В 1860 г. был открыт Госуда-рственный банк, для кредитования важнейших от-раслей промышленности и поддерживать частные коммерческие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60-70-е гг.частные банки возникли в Москве и Пе-тербур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D412-3DFC-4C37-B3E2-DE4E891F2C9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ни оказали огромное влияние на развитие экономи-ки в тот пери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У истоков банковского дела стоял В.Кокорев, сколо-тивший капитал на винных откупах.В к. 60-х гг. он открыл Московский купеческий банк, а в 1870 г. - Волжско-Камский банк для финансирования про-мышленных предприятий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8FDE-8D6F-4794-A16D-8116C249594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F46-A59C-4793-9955-41F98548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818-B323-4844-9BA9-E74A4135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1E8-F4C0-41F3-BA36-668D6F80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C9B-D312-4FDD-8BF9-3C9E85C6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8F4-B246-4C7C-9E73-C47FF0AA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8C8-45A1-458B-95FD-C1C6AB81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70F-BFC3-4AB6-AF88-63378469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954-8F3C-4164-925C-BDCC4448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82E-95A0-4D95-8B35-8B074239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7CC-5413-4982-B343-D025305D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F09-C3F1-4BA5-929E-0AAA93C9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1E8-5840-4464-9A96-A170A3DE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C0EF-ADD5-4A00-B50B-A2FF43AC4F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321048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2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оле 4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8 клас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Объект WordArt 6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" name="Объект WordArt 7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IX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" name="Объект WordArt 8"/>
          <p:cNvSpPr txBox="1"/>
          <p:nvPr/>
        </p:nvSpPr>
        <p:spPr>
          <a:xfrm>
            <a:off x="2895480" y="1676520"/>
            <a:ext cx="592164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азвити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капитализма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в России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257440" y="609120"/>
            <a:ext cx="3809880" cy="6172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витие банков оказа-лось тесно связано со строительством желе-зных дорог.Это объяс-нялос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.Поражением в Крымс-кой войн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.Желанием увеличить экспорт хлеба за счет  соединения центра с провинцией транспор-тной се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ла создана программа привлечения частного и иностранного капи-т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оле 5"/>
          <p:cNvSpPr/>
          <p:nvPr/>
        </p:nvSpPr>
        <p:spPr>
          <a:xfrm>
            <a:off x="1631880" y="5486400"/>
            <a:ext cx="31341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ци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гоностроитель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од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7" descr="Рисунок5"/>
          <p:cNvPicPr/>
          <p:nvPr/>
        </p:nvPicPr>
        <p:blipFill>
          <a:blip r:embed="rId2"/>
          <a:stretch/>
        </p:blipFill>
        <p:spPr>
          <a:xfrm>
            <a:off x="1547640" y="907920"/>
            <a:ext cx="3314880" cy="4405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95280" y="3657240"/>
            <a:ext cx="7772400" cy="3048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68-72 гг. в стране проходило бурное железнодоро-жное строительство.Транспортная сеть выросла с 2 тыс. до 22 тыс. км дорог.Появились предприни-матели разбогатевшие на таком строительстве.Им разрешали на льготных условиях приобрести под-вижной состав,рельсы и др. материалы.Большин-ство дорог строились в интересах промышленнос-ти и торгов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оле 5"/>
          <p:cNvSpPr/>
          <p:nvPr/>
        </p:nvSpPr>
        <p:spPr>
          <a:xfrm>
            <a:off x="1401480" y="1555920"/>
            <a:ext cx="226548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оительст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рог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6" descr="Рисунок4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997440" y="828720"/>
            <a:ext cx="4895640" cy="27464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71600" y="3809880"/>
            <a:ext cx="769608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сква была с вязана с Нижним Новгородом, Воро-нежем,Уралом.Между собой были соединены круп нейшие текстильные центры.Грузооборот желез-ных дорог вырос за 15 лет в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91 г. началось строительство Транссиба.Разви-тие транспорта привело к развитию сопутствую-щих отраслей промышлен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оле 5"/>
          <p:cNvSpPr/>
          <p:nvPr/>
        </p:nvSpPr>
        <p:spPr>
          <a:xfrm>
            <a:off x="1400760" y="1447920"/>
            <a:ext cx="24087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нссибирск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рог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Рисунок 7" descr="Рисунок3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140360" y="846000"/>
            <a:ext cx="4679640" cy="28879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Объект 6"/>
          <p:cNvGraphicFramePr/>
          <p:nvPr/>
        </p:nvGraphicFramePr>
        <p:xfrm>
          <a:off x="2590920" y="685800"/>
          <a:ext cx="4876560" cy="32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685800"/>
                    <a:ext cx="4876560" cy="3295800"/>
                  </a:xfrm>
                  <a:prstGeom prst="rect">
                    <a:avLst/>
                  </a:prstGeom>
                  <a:ln w="76320">
                    <a:solidFill>
                      <a:srgbClr val="cc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95280" y="3886200"/>
            <a:ext cx="7772400" cy="28195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к. 1860-х гг. начался промышленный подъем.В сер. 80-х гг. завершился промышленный перевор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лавной базой металлургии оставался Урал,но быст-ро развивался Донбасс.Здесь же добывали уголь.В Баку сосредоточилась добыча нефти.Начало разви-ваться машиностроение-Путиловский з-д в Петер-бурге и в Коломне производство паровоз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181120" y="685440"/>
            <a:ext cx="3886200" cy="6095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ыстрыми темпами раз-вивалась текстильная промышленность.Владельцы мануфактур по-купали земли в Ср. Азии и начали выращи вать там хлопок.За 30 лет производство текс-тиля выросло в 3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 Юге успехов достигла свеклосахарная про-мышленность(рост в 6 ваз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исло рабочих выросло за 15 лет в 1,5 раза и составила 1 мл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оле 4"/>
          <p:cNvSpPr/>
          <p:nvPr/>
        </p:nvSpPr>
        <p:spPr>
          <a:xfrm>
            <a:off x="1647720" y="5867280"/>
            <a:ext cx="30794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цехе завода Г.Пе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Петербург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Рисунок2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511280" y="846000"/>
            <a:ext cx="3348000" cy="48150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оле 5"/>
          <p:cNvSpPr/>
          <p:nvPr/>
        </p:nvSpPr>
        <p:spPr>
          <a:xfrm>
            <a:off x="1831320" y="1692360"/>
            <a:ext cx="14821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до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чего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7772400" cy="31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полнение шло за счет крестьян-отходников,посте-пенно отрывавшихся от земли.Уже в 1872 г. на Кре нмгольской мануфактуре прошла 1-я в истории России стач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н.80-х гг. темпы развития резко замедлились из-за Русско-Турецкой войны,нерациональным налого-обложением и низкой покупательной способностью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8" descr="Рисунок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067280" y="839880"/>
            <a:ext cx="4681440" cy="2660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240" y="1142640"/>
            <a:ext cx="7620120" cy="5181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-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-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4" descr="ag00029_"/>
          <p:cNvPicPr/>
          <p:nvPr/>
        </p:nvPicPr>
        <p:blipFill>
          <a:blip r:embed="rId2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914040"/>
            <a:ext cx="7620120" cy="571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Что способствовало и что тормозило развитие капиталистических отношений в промышленности, сельском хозяйстве и финансах России в пореформенный период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4" descr="ag00317_"/>
          <p:cNvPicPr/>
          <p:nvPr/>
        </p:nvPicPr>
        <p:blipFill>
          <a:blip r:embed="rId2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маковский отдых во время сбора урожая"/>
          <p:cNvPicPr/>
          <p:nvPr/>
        </p:nvPicPr>
        <p:blipFill>
          <a:blip r:embed="rId1"/>
          <a:stretch/>
        </p:blipFill>
        <p:spPr>
          <a:xfrm>
            <a:off x="3995640" y="260280"/>
            <a:ext cx="4845240" cy="3390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95280" y="3276360"/>
            <a:ext cx="777240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первые годы после реформы в сельском хозяйстве начался спад вызванный его перестройкой.Поме-щики оказались в сложных условиях-у них не бы-ло свободного капитала и инвентар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почему?).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с-новная часть помещиков выкупные платежи быс-тро промотала,а власти при выдаче денег удержи-вали с них долги.Поэтому помещики сдавали зем-лю в аренду, а за это крестьяне отрабатывали и их наде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оле 5"/>
          <p:cNvSpPr/>
          <p:nvPr/>
        </p:nvSpPr>
        <p:spPr>
          <a:xfrm>
            <a:off x="1535400" y="1152360"/>
            <a:ext cx="21297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Маковск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дых в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сбор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жа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7" descr="Рисунок10"/>
          <p:cNvPicPr/>
          <p:nvPr/>
        </p:nvPicPr>
        <p:blipFill>
          <a:blip r:embed="rId1"/>
          <a:stretch/>
        </p:blipFill>
        <p:spPr>
          <a:xfrm>
            <a:off x="4643280" y="522360"/>
            <a:ext cx="4249800" cy="26082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95280" y="3200040"/>
            <a:ext cx="7772400" cy="3505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ногие помещики использовали труд временнообя-занных крестьян.Даже высокие мировые цены на хлеб и строительство дорог в хлебные районы не заставило их вести хозяйство по-капиталистичес-ки.Крестьяне-арендаторы тоже не воспользова-лись эти фактором,т.к. аренда росла еще быстр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естьяне и помещики не были уравнены в гражд-анских правах,т.к.1-е были причислены к подат-ным сослов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оле 5"/>
          <p:cNvSpPr/>
          <p:nvPr/>
        </p:nvSpPr>
        <p:spPr>
          <a:xfrm>
            <a:off x="1481400" y="1387440"/>
            <a:ext cx="28202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естьянский д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фото к. 19 века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6" descr="Рисунок9"/>
          <p:cNvPicPr/>
          <p:nvPr/>
        </p:nvPicPr>
        <p:blipFill>
          <a:blip r:embed="rId1"/>
          <a:stretch/>
        </p:blipFill>
        <p:spPr>
          <a:xfrm>
            <a:off x="4427640" y="598320"/>
            <a:ext cx="4248000" cy="2686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295280" y="3276360"/>
            <a:ext cx="777240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результате крестьянской реформы ожидаемого рос-та промышленности не последовало.Предпринима-тели получили возможность использовать вольно-наемный труд, но посессионные крестьяне испы-тывая ненависть к подневольному труду бросали заводы и уходили в деревню.В результате сократи-лось производство в металлургии и суконной про-мышленности.Лишь через 10 лет они смогли прео-долеть кризи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оле 5"/>
          <p:cNvSpPr/>
          <p:nvPr/>
        </p:nvSpPr>
        <p:spPr>
          <a:xfrm>
            <a:off x="1798200" y="1301760"/>
            <a:ext cx="2012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од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атье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м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вы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876560" y="761760"/>
            <a:ext cx="4190760" cy="6019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хлопчатобумажной про-мышленности кризис объ яснялся ростом мировых цен на хлопок.Но после присоединения к России Средней Азии это пробле-ма была разреше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есмотря на трудности рос-сийская экономика суме-ла перестроиться доволь-но быстро во многом бла- годаря целенаправлен-ной экономической поли-тике государства.В стра-не появился слой круп-ных фабрика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оле 1029"/>
          <p:cNvSpPr/>
          <p:nvPr/>
        </p:nvSpPr>
        <p:spPr>
          <a:xfrm>
            <a:off x="2092320" y="5877000"/>
            <a:ext cx="18205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абрикан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о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1031" descr="Рисунок8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63560" y="907920"/>
            <a:ext cx="2692440" cy="47595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95280" y="3809880"/>
            <a:ext cx="777240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кономические реформы начались с реорганизации банковской системы.В 1860 г. был открыт Госуда-рственный банк, для кредитования важнейших от-раслей промышленности и поддерживать частные коммерческие бан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60-70-е гг.частные банки возникли в Москве и Пе-тербур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. 4"/>
          <p:cNvSpPr/>
          <p:nvPr/>
        </p:nvSpPr>
        <p:spPr>
          <a:xfrm>
            <a:off x="137160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оле 7"/>
          <p:cNvSpPr/>
          <p:nvPr/>
        </p:nvSpPr>
        <p:spPr>
          <a:xfrm>
            <a:off x="1486080" y="1631880"/>
            <a:ext cx="21297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.Маковск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9" descr="Рисунок7"/>
          <p:cNvPicPr/>
          <p:nvPr/>
        </p:nvPicPr>
        <p:blipFill>
          <a:blip r:embed="rId2"/>
          <a:stretch/>
        </p:blipFill>
        <p:spPr>
          <a:xfrm>
            <a:off x="3995640" y="838080"/>
            <a:ext cx="4897440" cy="2889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95280" y="3809880"/>
            <a:ext cx="777240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и оказали огромное влияние на развитие экономи-ки в тот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 истоков банковского дела стоял В.Кокорев, сколо-тивший капитал на винных откупах.В к. 60-х гг. он открыл Московский купеческий банк, а в 1870 г. - Волжско-Камский банк для финансирования про-мышленных предприятий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. 4"/>
          <p:cNvSpPr/>
          <p:nvPr/>
        </p:nvSpPr>
        <p:spPr>
          <a:xfrm>
            <a:off x="137160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оле 5"/>
          <p:cNvSpPr/>
          <p:nvPr/>
        </p:nvSpPr>
        <p:spPr>
          <a:xfrm>
            <a:off x="1717920" y="1844640"/>
            <a:ext cx="217260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ноты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ца 19 ве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8" descr="Рисунок6"/>
          <p:cNvPicPr/>
          <p:nvPr/>
        </p:nvPicPr>
        <p:blipFill>
          <a:blip r:embed="rId2"/>
          <a:stretch/>
        </p:blipFill>
        <p:spPr>
          <a:xfrm>
            <a:off x="4498920" y="808200"/>
            <a:ext cx="4321080" cy="2962080"/>
          </a:xfrm>
          <a:prstGeom prst="rect">
            <a:avLst/>
          </a:prstGeom>
          <a:ln w="57240">
            <a:solidFill>
              <a:srgbClr val="ccccff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LEGION</cp:lastModifiedBy>
  <dcterms:modified xsi:type="dcterms:W3CDTF">2015-01-15T12:24:56Z</dcterms:modified>
  <cp:revision>51</cp:revision>
  <dc:subject/>
  <dc:title>Презентация PowerPoint</dc:title>
</cp:coreProperties>
</file>